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11A-B6D2-4FEE-95B9-79028309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379-41AD-454A-85E3-4A80C408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A16BB-6056-4D12-B32E-3DDB95CB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2487B-810A-480A-A3EA-05A6B8EF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5CC3C-9B11-499B-B3C1-C61B3300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AA084-CFB3-4573-8273-BDB62C19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A2259-CC00-45C4-96D6-6C59AE1D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F5819-B1D8-4ECB-8469-45655B8F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E6CC3-6B8F-42AE-A54E-F90F85B9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B523C-EBE8-4445-9019-7C3A45CE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D6B26-D866-4EF0-9E58-4BD84EB0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FA57AF-A06E-4751-B101-96618BD0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E88-45A6-4CD5-899C-E8EA4A49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292C9F-BEB6-4B9C-A4E9-7E1ADFFA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42058B-7E6E-45F0-BE77-FEA1660C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36E026-1A82-4804-AA17-CFF2E92B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40CB11-5C5C-493F-B6DE-09379D66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26CCFC-E7F3-421C-9DA6-48E78E76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7A3585-6465-4DE3-B900-0A607963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DB47E6-68C1-4059-89AD-0E9ACB4F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157FFA-BCB4-4D1F-938D-8FF24E94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318285-548A-4BA2-99E8-35168724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86CD84-51A3-4FFC-9CD3-2F64477B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7CB-254A-406C-80E2-F9A4B5C5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B2A195-DFA8-4C3F-BC77-CE78DF40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00EE65-97AC-44A5-8001-0A3D58FD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A4AF7B-4417-46D2-9D46-7E74028D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3626E0-2AF2-4E2B-8D45-D43C27DA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706775-381D-4221-BB0C-3B9E711B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7B6AF5-3685-49B3-B3FB-9C8FEE3A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1E5CEE-1B40-40E3-9418-70869B56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2ECB7F-0214-4BD5-BDE8-1AD4B859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DDF6BB-5DA5-4FFD-9079-68BF4039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6F509A-B40F-4E08-B635-8208B598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287A-C8C7-48C4-A6E7-BFD5F92C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BBA002-0E50-48A5-BFD8-75998287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79BF1F-61CD-4373-8826-D26A2CCF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458D88-1594-4A48-9235-FD372FF0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BE0E-84CD-43EF-9966-06FD0343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C97A-EC40-4F4B-B243-90E162FF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595C-5DC3-4C8F-AF7A-B40E5910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5828-4C7F-4208-ABD7-ABD074E9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DF5C-7372-43BD-A762-F1A78528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FDAE-F91C-4975-BBE4-3EAEF449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7ED6-5B32-4CAD-B9D9-ECBB60CB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666D-374F-4E12-820D-31B1F14B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D2BD-4901-4FF3-9F32-5E6240DE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03C9-00AF-4634-90F3-58CEDE43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787F-A302-4EC9-B5B9-96D8A581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0244-83D0-4830-A343-90B8547D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3CF51-3510-4462-BE4A-C68DE3A2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39B72-5AB8-4FBD-B0BB-A8C83333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5108B-9895-4FC8-80D0-31AF6031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4E376-6F94-4011-994E-A49ED4FF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210ED-B3F0-47F5-AAF0-D261D518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B10-E356-4D08-8DE9-5A9E9965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0AF1-F4BF-4FDF-A4AA-A6C7169D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7FF4C-7AD9-4AE3-B29A-A41471E1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E36F3-8542-43CE-8AC9-3200C4E2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3AF0-3749-4321-BF78-ACB0C78F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ADED-3A88-46D1-BA98-B30E1358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CB654-CC5F-45DB-B675-44A2FCA8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5DACF-7B7C-46E3-AE6C-B31B69A6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599FD9-C889-42A7-8593-F7A34CFA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D7469-4822-4642-A0C1-F147423B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A5F5B-49A9-4F51-A3A9-19C4FB38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E92-2DA4-4138-A049-6F7DF66C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660985-AB6B-49DE-9397-A513D3CB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9D9CC-B9D9-404A-9F5C-1319EF7F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11B545-1C99-4FAC-B332-FD91D2E0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DB0E9-3A03-4020-8FAB-03706FD4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8B360-F491-4D76-8CF4-A70A5382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5143F-603E-4706-B252-4F6C20CA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564B1-338A-4E90-A225-E907FA84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388145-4EF8-42C2-970F-EF3185CF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7BF2F-CB9B-47EE-93DC-86E09008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EEB06-AD9A-4AF4-A184-0E17C101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55E-865A-43AD-A219-D0D996AD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A5C1F-39AF-41C6-9D0D-800302C9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6AB09-E9DB-4D0B-9E4B-515DFE2A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80B63-BDA2-4FA1-A2A2-A8F3CADA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B17C8-B7B9-4C8D-9274-9EBB37FD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58120-7786-4A90-B5D6-E26B6FD5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D9480-0DDD-4AC6-B33A-DF2C5BC5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44D8E-26FB-4CED-9C97-0F2333A1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25EAE-E046-4A09-9F92-505A920D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A041D-59D2-475E-8D2F-2395D116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15E2C-D5FF-49D4-8907-1EF99DB0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E39-51F1-4351-8F20-3CE4D2DC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05767-3AB9-4E75-B8F4-05B26F05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AAB723-EF03-4C6E-B7B3-C2D55D5D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189659-C825-455A-8E16-7650E01A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79A13-48DC-44FA-8020-BD362CF0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728A91-72DA-4FD7-A679-65466FE8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56411-B691-4975-9C35-85B363E0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DE5E9E-1CC6-49C9-8C66-CD21360E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60A6D3-4B2A-4855-BE45-8110CE61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9E566-32C3-47C8-9EC0-C8415DCA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DCBA7C-182E-4E3E-8D5F-2CD91FBF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8435-B439-4EDD-9521-814F135A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9CCF4-06FD-4D13-BF5B-2591AA84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F2682E-94B8-4CF0-9E4D-9D0712E1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0081EB-D485-4AF2-A44B-226A74A9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6FFD7-50F2-4A27-970C-3943DB63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54713-8CFF-43CD-A6AD-C46B136D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DA8DD-E458-4C7F-BAA4-91DB301F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76957-A2DE-489B-B6B8-FF9A80D5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B5188-1BCB-44E0-AB6C-CDFD9A35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A8232-A21A-4CD1-9400-AB08546C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DA43A-40B8-44C3-8638-D8F6C74C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71C-9E0C-48EE-89CD-2431744B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4CD00-7993-4960-B2A2-811637B2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1E8C3-40BF-47CF-910E-838BD6EA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DF53E-F245-46A5-9328-EE872E06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99AAF-FB13-46BE-9C35-C00DEFE1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4BD3C-918D-4CD3-B2E6-4A4DF8E7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A2871-F8C4-45A6-9692-F2384DF7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15C0C-E945-4E16-BBBF-A3C9B035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6036B-FF63-48BD-9FC1-72CE84D3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C9D39-AAD6-4907-9F23-DFBB48D6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EE781-2977-407A-B8D4-44F38CA2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C71-88CE-4B0A-8103-6F936C2B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8A2E8-C536-4FFE-A003-DE196AE9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21D02-EAAD-428C-879B-BCF66A77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3DA59-4256-4434-84BA-1410C87A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3DD3A-5CCA-4FEA-BCE7-18B52622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9E8B8-CFBC-4D9E-AC34-25681A79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CD1DE-6BF3-4DDA-BC91-3E505ADA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DCD85-0D5F-44EE-BD4E-567ED6C9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C0FF4-F0AC-46CE-AFAF-1DD08156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495C6-8829-45D4-82FE-3AA1BE0F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30C24-EB76-4022-95BF-1D50AB27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538E-8324-4742-BB7F-F79D71F3815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sldNum" idx="29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1B5D-6939-430C-AF2A-FEB01B93377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30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32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7968-605C-4117-8D6B-6C196144262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ftr" idx="33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FE00-A850-4D0F-A72B-0B5335D6E1A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0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4EEC-F320-451D-BC2D-D94303D5917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13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1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07BA-F699-42D2-A9E1-F276F7A2433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2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7417-AA50-4459-B0B5-ACA16124869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7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0A2D-E48A-43E4-93BB-9BF1D4D829C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8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3C9C-96B2-448B-B419-1E0B9792BEA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62E8-3C25-414B-B826-A457A6FB0D8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5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3134-C95C-4567-983D-1DFDF89ED2E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826920" y="692280"/>
            <a:ext cx="7775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ужество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это такое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611280" y="3429000"/>
            <a:ext cx="76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ль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ать определение понятию «мужество»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ывать патриотизм, любовь к Родине и людям ее охраняющим не только в военное, но и мирное врем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16"/>
          <p:cNvPicPr/>
          <p:nvPr/>
        </p:nvPicPr>
        <p:blipFill>
          <a:blip r:embed="rId1"/>
          <a:stretch/>
        </p:blipFill>
        <p:spPr>
          <a:xfrm>
            <a:off x="108000" y="765000"/>
            <a:ext cx="3889440" cy="2918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17"/>
          <p:cNvPicPr/>
          <p:nvPr/>
        </p:nvPicPr>
        <p:blipFill>
          <a:blip r:embed="rId2"/>
          <a:stretch/>
        </p:blipFill>
        <p:spPr>
          <a:xfrm>
            <a:off x="4140360" y="3068640"/>
            <a:ext cx="46083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4"/>
          <p:cNvSpPr/>
          <p:nvPr/>
        </p:nvSpPr>
        <p:spPr>
          <a:xfrm>
            <a:off x="395280" y="10746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дведем итог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332000" y="1773360"/>
            <a:ext cx="720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лавный герой русских былин -Богатыр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ые известные имена былинных богатырей - Илья Муромец, Алеша Попович, Добрыня Никити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аринное название русского войска – рат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лавное сражение Отечественной войны 1812 года - Бородинское сра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ая великая из войн – Великая Отечествен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ая доблестная армия - Россий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он о праздновании Дня Защитника Отечества был принят в1995 г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ые мужественные люди – РУССК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4"/>
          <p:cNvSpPr/>
          <p:nvPr/>
        </p:nvSpPr>
        <p:spPr>
          <a:xfrm>
            <a:off x="3062880" y="691560"/>
            <a:ext cx="38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что такое мужеств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324000" y="2060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Это храбрость, присутствие духа в опасности. (Толковый словарь Русского языка С.И. Ожегов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468360" y="357336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рабрость – мужество и решительность в поступках, отсутствие страза пред опаснлст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1332000" y="333360"/>
            <a:ext cx="63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ужество в наше время, в мирное время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Picture 5" descr="Забег мужество"/>
          <p:cNvPicPr/>
          <p:nvPr/>
        </p:nvPicPr>
        <p:blipFill>
          <a:blip r:embed="rId1"/>
          <a:stretch/>
        </p:blipFill>
        <p:spPr>
          <a:xfrm>
            <a:off x="755640" y="2637000"/>
            <a:ext cx="2400480" cy="352728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6"/>
          <p:cNvSpPr/>
          <p:nvPr/>
        </p:nvSpPr>
        <p:spPr>
          <a:xfrm>
            <a:off x="755640" y="609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мороз пробежать 30 км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Picture 7" descr="мужество беженцев"/>
          <p:cNvPicPr/>
          <p:nvPr/>
        </p:nvPicPr>
        <p:blipFill>
          <a:blip r:embed="rId2"/>
          <a:stretch/>
        </p:blipFill>
        <p:spPr>
          <a:xfrm>
            <a:off x="4716360" y="3573360"/>
            <a:ext cx="3506760" cy="233856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8"/>
          <p:cNvSpPr/>
          <p:nvPr/>
        </p:nvSpPr>
        <p:spPr>
          <a:xfrm>
            <a:off x="4716360" y="6021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быть беженцем… бороться за свое счастье и право на жиз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808200" y="1866960"/>
            <a:ext cx="74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о быть мужественным, чтобы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при тушении пожаров"/>
          <p:cNvPicPr/>
          <p:nvPr/>
        </p:nvPicPr>
        <p:blipFill>
          <a:blip r:embed="rId1"/>
          <a:stretch/>
        </p:blipFill>
        <p:spPr>
          <a:xfrm>
            <a:off x="250920" y="333360"/>
            <a:ext cx="4465440" cy="3355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42"/>
          <p:cNvPicPr/>
          <p:nvPr/>
        </p:nvPicPr>
        <p:blipFill>
          <a:blip r:embed="rId2"/>
          <a:stretch/>
        </p:blipFill>
        <p:spPr>
          <a:xfrm>
            <a:off x="5087880" y="2421000"/>
            <a:ext cx="3667320" cy="429264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7"/>
          <p:cNvSpPr/>
          <p:nvPr/>
        </p:nvSpPr>
        <p:spPr>
          <a:xfrm>
            <a:off x="395280" y="4221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асать люд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5435640" y="148428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первые добиваться успе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715644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5"/>
          <p:cNvSpPr/>
          <p:nvPr/>
        </p:nvSpPr>
        <p:spPr>
          <a:xfrm>
            <a:off x="179280" y="981000"/>
            <a:ext cx="896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</a:rPr>
              <a:t>Много разных дел и поступков можно назвать мужественными!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1979640" y="1916280"/>
            <a:ext cx="525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 знаем, что ныне лежит на веса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что совершается нын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 мужества пробил на наших часах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мужество нас не покинет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4" descr="5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4"/>
          <p:cNvSpPr/>
          <p:nvPr/>
        </p:nvSpPr>
        <p:spPr>
          <a:xfrm>
            <a:off x="536760" y="596880"/>
            <a:ext cx="855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 может родная земля! Может накормить теплым и вкусным хлебом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поить родниковой водой, восхитить своей красотой. И только защитит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ма себя она не может… Поэтому защита Отечества и родной земли – дол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х, кто ест ее хлеб, пьет ее воду, любуется ее красот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протяжении многих веков не раз приходилось русским людям отстаива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боду и независимость своей Роди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814680" y="2708280"/>
            <a:ext cx="799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род помнит своих легендарных героев-стражей: Илью Муромц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брыню Никитича, Алешу Попович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395280" y="3692520"/>
            <a:ext cx="10974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веках осталась и по сей день живет добрая память о русском воин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к о самом мужественном бесстрашном, честном, преданном Отечеству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верном в дружбе. О русском князе Игоре Святославовиче и храбр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инов его дружины сохранено  и рассказано в русском эпосе “Слово 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лку Игореве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684360" y="537372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вновь в 1830 году войско великого князя Дмитрия Донского разбило татаро-монгольские полчища на Куликовом пол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3"/>
          <p:cNvPicPr/>
          <p:nvPr/>
        </p:nvPicPr>
        <p:blipFill>
          <a:blip r:embed="rId1"/>
          <a:stretch/>
        </p:blipFill>
        <p:spPr>
          <a:xfrm>
            <a:off x="755640" y="476280"/>
            <a:ext cx="8028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7"/>
          <p:cNvPicPr/>
          <p:nvPr/>
        </p:nvPicPr>
        <p:blipFill>
          <a:blip r:embed="rId1"/>
          <a:stretch/>
        </p:blipFill>
        <p:spPr>
          <a:xfrm>
            <a:off x="468360" y="128520"/>
            <a:ext cx="842472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7" descr="11"/>
          <p:cNvPicPr/>
          <p:nvPr/>
        </p:nvPicPr>
        <p:blipFill>
          <a:blip r:embed="rId1"/>
          <a:stretch/>
        </p:blipFill>
        <p:spPr>
          <a:xfrm>
            <a:off x="900000" y="2276640"/>
            <a:ext cx="6836040" cy="437508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4"/>
          <p:cNvSpPr/>
          <p:nvPr/>
        </p:nvSpPr>
        <p:spPr>
          <a:xfrm>
            <a:off x="395280" y="54936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 подвиге солдат и русского дворянства во время Отечественной войны 1812 года рассказал великий русский писатель Лев Толстой в романе “Война и мир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468360" y="1773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 не долго отдыхали от ратных дел русские солдат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971640" y="2421000"/>
            <a:ext cx="52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Сорок первый! Июнь.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Год и месяц борьбы всенародной.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Даже пылью времен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Затянуть эту дату нельзя.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Поднималсь страна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И на фронт уходила поротно,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Кумачевые звезды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На полотнах знамен уно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13"/>
          <p:cNvPicPr/>
          <p:nvPr/>
        </p:nvPicPr>
        <p:blipFill>
          <a:blip r:embed="rId1"/>
          <a:stretch/>
        </p:blipFill>
        <p:spPr>
          <a:xfrm>
            <a:off x="395280" y="476280"/>
            <a:ext cx="4321080" cy="26748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14"/>
          <p:cNvPicPr/>
          <p:nvPr/>
        </p:nvPicPr>
        <p:blipFill>
          <a:blip r:embed="rId2"/>
          <a:stretch/>
        </p:blipFill>
        <p:spPr>
          <a:xfrm>
            <a:off x="4859280" y="3284640"/>
            <a:ext cx="4103640" cy="3063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15"/>
          <p:cNvPicPr/>
          <p:nvPr/>
        </p:nvPicPr>
        <p:blipFill>
          <a:blip r:embed="rId3"/>
          <a:stretch/>
        </p:blipFill>
        <p:spPr>
          <a:xfrm>
            <a:off x="324000" y="3357720"/>
            <a:ext cx="4392360" cy="28112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9"/>
          <p:cNvPicPr/>
          <p:nvPr/>
        </p:nvPicPr>
        <p:blipFill>
          <a:blip r:embed="rId4"/>
          <a:stretch/>
        </p:blipFill>
        <p:spPr>
          <a:xfrm>
            <a:off x="4788000" y="476280"/>
            <a:ext cx="4356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Br_047"/>
          <p:cNvPicPr/>
          <p:nvPr/>
        </p:nvPicPr>
        <p:blipFill>
          <a:blip r:embed="rId1"/>
          <a:stretch/>
        </p:blipFill>
        <p:spPr>
          <a:xfrm>
            <a:off x="1908000" y="-414360"/>
            <a:ext cx="5180040" cy="72723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"/>
          <p:cNvSpPr/>
          <p:nvPr/>
        </p:nvSpPr>
        <p:spPr>
          <a:xfrm>
            <a:off x="684360" y="333360"/>
            <a:ext cx="7559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27 000 000 -  погибших на две с половиной тысячи километ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это 10 800 убитых на километр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22 человека на каждые два метра зем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17 000 000 погибших за 14018  дн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это 19 000 ежедневно, 800 человек в час, 30  человек каждую минуту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27 000 000 погибших в соотношении ко всему населению тех лет. Это значит: каждый шестой житель нашей страны погиб во время вой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олдаты сражались во имя мира и мечтали о будущем в передышках между боями, в тесных землянках и холодных окопах. Они верили, что мир, спасенный от фашизма, будет прекрасен. И эта вера давала им сил, давала веру, надежду. Делала их мужествен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900000" y="5300640"/>
            <a:ext cx="71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Закончилась Великая Отечественная война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Но войны не закончили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4"/>
          <p:cNvSpPr/>
          <p:nvPr/>
        </p:nvSpPr>
        <p:spPr>
          <a:xfrm>
            <a:off x="539640" y="47628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сять страшных лет продолжалась война в Афганистане. Официально это называлось “выполнение интернационального долга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мы знаем, сколько наших ребят полегло на афганской земле. Они свой долг выполнили с честью, а вот выполнили ли долг перед ними те, кто посылал их на эту войну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ончилась война в Афганистане, но вновь не спят матери, провожая своих сыновей на службу в армию. Все новые и новые “горячие точки” вспыхивают на карте нашей страны, и среди них ставшее для многих страшным слово “Чечня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ссийские солдаты, вернувшиеся с чеченской войны, принесли с собой как бы обновленную любовь к Родине. Они в какой-то мере вернули нам высокое понятие патриотизма, мужества, воинского долг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7:29:57Z</dcterms:created>
  <dc:creator>SeryjVolhv</dc:creator>
  <dc:description/>
  <dc:language>en-US</dc:language>
  <cp:lastModifiedBy>Алия</cp:lastModifiedBy>
  <dcterms:modified xsi:type="dcterms:W3CDTF">2020-03-31T17:34:39Z</dcterms:modified>
  <cp:revision>9</cp:revision>
  <dc:subject/>
  <dc:title>Слайд 1</dc:title>
</cp:coreProperties>
</file>